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60B-57D8-4E65-8465-CE461233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EBF-51E0-43CA-B8F6-A076115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ABE-B2BF-40AD-8654-B1514F22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238-25CC-4B9B-BBC1-24C9928D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DEB-9E12-432E-9470-40F34CD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176-70CC-412C-8523-5C64CDA4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BDD-5334-42B5-BDA9-CA8C847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5E8-FF63-4329-8C7E-4B0F0BA6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7CF-08DC-4504-8229-FE58E413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B8-343F-4795-803D-E633243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B6F-607B-462F-9109-3D1DFF6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159-70D0-4366-8CC9-450EB60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853-84B8-490F-8DD3-6A653B7E4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fasttrackteaching.com/burns/Unit_2_Westward/Plains_wagons_1869_dbloc_sa.gif"/>
          <p:cNvPicPr/>
          <p:nvPr/>
        </p:nvPicPr>
        <p:blipFill>
          <a:blip r:embed="rId1"/>
          <a:stretch/>
        </p:blipFill>
        <p:spPr>
          <a:xfrm>
            <a:off x="-609480" y="-76320"/>
            <a:ext cx="10518480" cy="723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05280" y="1828440"/>
            <a:ext cx="9829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y Did People Move Wes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9296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lain the factors that supported settlement of the West: 4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9" descr=""/>
          <p:cNvPicPr/>
          <p:nvPr/>
        </p:nvPicPr>
        <p:blipFill>
          <a:blip r:embed="rId1"/>
          <a:stretch/>
        </p:blipFill>
        <p:spPr>
          <a:xfrm>
            <a:off x="65160" y="0"/>
            <a:ext cx="9013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Oval 35"/>
          <p:cNvSpPr/>
          <p:nvPr/>
        </p:nvSpPr>
        <p:spPr>
          <a:xfrm>
            <a:off x="-228600" y="2717640"/>
            <a:ext cx="4049640" cy="411480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own Arrow 34"/>
          <p:cNvSpPr/>
          <p:nvPr/>
        </p:nvSpPr>
        <p:spPr>
          <a:xfrm rot="3606600">
            <a:off x="3390840" y="1533240"/>
            <a:ext cx="2362320" cy="37368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4" descr="Homestead Lands.jpg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vertisem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ilroads used advertisements in order to encourage Americans to settle on the Great Plains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ompanies created advertisements in foreign languages to recruit more settlers and offered to build schools and churches for their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settlers meant more customer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anscontinental Railro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ntral Pacific Railroad (buil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lifornia -&gt; East) and the Union Pacific (built from Nebraska &lt;- West) met to connect the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immigrants were needed for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www.fasttrackteaching.com/burns/Unit_2_Westward/Transcontinental_RR_map_crop.gif"/>
          <p:cNvPicPr/>
          <p:nvPr/>
        </p:nvPicPr>
        <p:blipFill>
          <a:blip r:embed="rId1"/>
          <a:stretch/>
        </p:blipFill>
        <p:spPr>
          <a:xfrm>
            <a:off x="887400" y="3351240"/>
            <a:ext cx="7189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www.fasttrackteaching.com/burns/Unit_2_Westward/Cattle_CO_dbloc_1898.gif"/>
          <p:cNvPicPr/>
          <p:nvPr/>
        </p:nvPicPr>
        <p:blipFill>
          <a:blip r:embed="rId1"/>
          <a:stretch/>
        </p:blipFill>
        <p:spPr>
          <a:xfrm>
            <a:off x="-228600" y="0"/>
            <a:ext cx="993456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ventu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many people, the West seemed to hold the promise of unlimited possi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gave a chance to live an independent life, far from the crowded cities and factories of the Ea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9" descr="Comstock Lode Mine.jpg"/>
          <p:cNvPicPr/>
          <p:nvPr/>
        </p:nvPicPr>
        <p:blipFill>
          <a:blip r:embed="rId1"/>
          <a:srcRect l="0" t="2610" r="0" b="2610"/>
          <a:stretch/>
        </p:blipFill>
        <p:spPr>
          <a:xfrm>
            <a:off x="-152280" y="0"/>
            <a:ext cx="9428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iscovery of Gold and Silv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94000"/>
            <a:ext cx="9113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gold rush of 1849 excited people at the hopes of becoming rich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ers spread from California, to Nevada to the Dako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w got ri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www.fasttrackteaching.com/burns/Unit_2_Westward/Transcontinental_RR_Harpers_dbloc_1869_crop.gif"/>
          <p:cNvPicPr/>
          <p:nvPr/>
        </p:nvPicPr>
        <p:blipFill>
          <a:blip r:embed="rId1"/>
          <a:stretch/>
        </p:blipFill>
        <p:spPr>
          <a:xfrm>
            <a:off x="76320" y="0"/>
            <a:ext cx="9482040" cy="6975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chnological Advan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144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ster and easier transpor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www.fasttrackteaching.com/burns/Unit_2_Westward/Nicodemus_Kansas_family_dbloc_sa.gif"/>
          <p:cNvPicPr/>
          <p:nvPr/>
        </p:nvPicPr>
        <p:blipFill>
          <a:blip r:embed="rId1"/>
          <a:stretch/>
        </p:blipFill>
        <p:spPr>
          <a:xfrm>
            <a:off x="-171360" y="0"/>
            <a:ext cx="9315360" cy="739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pportunities for former enslaved African America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2949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est as a place to make a new begin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were nicknamed "Exodusters.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rm comes from the word "Exodus" in the biblical story of Moses leading the Hebrews out of Egy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www.fasttrackteaching.com/burns/Unit_2_Westward/Nebraska_farm_1886_dbloc_crop.gif"/>
          <p:cNvPicPr/>
          <p:nvPr/>
        </p:nvPicPr>
        <p:blipFill>
          <a:blip r:embed="rId1"/>
          <a:stretch/>
        </p:blipFill>
        <p:spPr>
          <a:xfrm>
            <a:off x="-685800" y="152280"/>
            <a:ext cx="9914040" cy="7239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pportunity to own la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(Homestead Ac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gave 160 acres of FREE lan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to stay for five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y few became successf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4:12:36Z</dcterms:created>
  <dc:creator>LATHOMPS</dc:creator>
  <dc:description/>
  <dc:language>en-US</dc:language>
  <cp:lastModifiedBy>Vickie J. Dean</cp:lastModifiedBy>
  <dcterms:modified xsi:type="dcterms:W3CDTF">2014-09-18T17:29:01Z</dcterms:modified>
  <cp:revision>8</cp:revision>
  <dc:subject/>
  <dc:title>Why Did People Move West?</dc:title>
</cp:coreProperties>
</file>